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4.jpeg" ContentType="image/jpe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6.jpeg" ContentType="image/jpeg"/>
  <Override PartName="/ppt/media/image23.jpeg" ContentType="image/jpeg"/>
  <Override PartName="/ppt/media/image21.wmf" ContentType="image/x-wmf"/>
  <Override PartName="/ppt/media/image1.png" ContentType="image/png"/>
  <Override PartName="/ppt/media/image24.png" ContentType="image/png"/>
  <Override PartName="/ppt/media/image19.gif" ContentType="image/gif"/>
  <Override PartName="/ppt/media/image2.png" ContentType="image/png"/>
  <Override PartName="/ppt/media/image25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1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4749-FCC4-4EFF-B31B-F7774B661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1447-FB56-4182-9E60-303A30F03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E0C3-C51F-417B-A73D-09DC8DD39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405F-3602-4B12-86B5-1C143864E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1EC1A-72D8-41AB-B68F-CFD11FBE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C7B2-6E33-48A4-AAD4-3A580101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5B2F-3F61-4B23-AED6-462956F19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F21-9B88-43F4-B176-733335CD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FD5B-28C3-42D6-AE1F-98CB34966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BBF0-2732-4CD0-B65C-A0D41FF0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4E97-A1C9-49E2-9B70-97F63714A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8FE0-331C-4F45-94A3-A48249114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344B3C-1794-4FE7-B493-78BFB49E28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4614480" y="5826240"/>
            <a:ext cx="452916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Катедра за Физиолог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доц. др Владимир Живкови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7"/>
          <p:cNvSpPr/>
          <p:nvPr/>
        </p:nvSpPr>
        <p:spPr>
          <a:xfrm>
            <a:off x="2130840" y="1197000"/>
            <a:ext cx="481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Calibri"/>
              </a:rPr>
              <a:t>Интегрисане академске студије стоматолог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8"/>
          <p:cNvSpPr/>
          <p:nvPr/>
        </p:nvSpPr>
        <p:spPr>
          <a:xfrm>
            <a:off x="2268360" y="19162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ОДУЛ 1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ОСНОВИ ФИЗИОЛОГИЈЕ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1332000" y="3068640"/>
            <a:ext cx="6624720" cy="9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. наставна јединица (трећ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Физиологија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ц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835280" y="333360"/>
            <a:ext cx="532908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18960" y="1197000"/>
            <a:ext cx="85060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4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мировни мембрански потенцијал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Вредност мировног мембранског потенцијала је око -90 mV, што је приближно равнотежном потенцијалу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за К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Током мировног мембранског потенцијала количина јона која уђе у кардиомиоците и која из њих изађе је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иближно ист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4" descr=""/>
          <p:cNvPicPr/>
          <p:nvPr/>
        </p:nvPicPr>
        <p:blipFill>
          <a:blip r:embed="rId1"/>
          <a:stretch/>
        </p:blipFill>
        <p:spPr>
          <a:xfrm>
            <a:off x="2862360" y="3500280"/>
            <a:ext cx="3419280" cy="2492640"/>
          </a:xfrm>
          <a:prstGeom prst="rect">
            <a:avLst/>
          </a:prstGeom>
          <a:ln w="0">
            <a:noFill/>
          </a:ln>
        </p:spPr>
      </p:pic>
      <p:sp>
        <p:nvSpPr>
          <p:cNvPr id="86" name="Oval 4"/>
          <p:cNvSpPr/>
          <p:nvPr/>
        </p:nvSpPr>
        <p:spPr>
          <a:xfrm>
            <a:off x="5940360" y="5589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Природа и ширење екцитације кроз срц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проводни систе срц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чине: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A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интернодалн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нопов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предњи, средњи и задњи)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V чвор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Хисов сноп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Пуркињеов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влакн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"/>
          <p:cNvPicPr/>
          <p:nvPr/>
        </p:nvPicPr>
        <p:blipFill>
          <a:blip r:embed="rId1"/>
          <a:stretch/>
        </p:blipFill>
        <p:spPr>
          <a:xfrm>
            <a:off x="1763640" y="2205000"/>
            <a:ext cx="7199280" cy="38196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6"/>
          <p:cNvSpPr/>
          <p:nvPr/>
        </p:nvSpPr>
        <p:spPr>
          <a:xfrm>
            <a:off x="144360" y="4941720"/>
            <a:ext cx="32036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Анатомска локализација делова спроводног система срца и изглед њиховог акционог потенциј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 се налази на споју горње шупље вене и десне преткоморе, док с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AV чвор налази у задњем десном делу интератријалног септу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Постоје три снопа преткоморских влакана која повезују SA чвор са 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чвором: предњи, средњ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Венкебахов сно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Wenckebach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 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задњ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Торелов сноп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300" spc="-1" strike="noStrike">
                <a:solidFill>
                  <a:srgbClr val="000000"/>
                </a:solidFill>
                <a:latin typeface="Arial"/>
              </a:rPr>
              <a:t>Thore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AV чвор се наставља Хисовим снопом, који се на врху интервентрикуларног септума дели на леву и десну гран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Гране и снопови се простиру наниже у субендокардијалном слоју са сваке стране септума и ступају у контакт са Пуркињеовим системом, чија се влакна шире до свих делова миокарда ком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Ћелије које ритмички окидају акционе потенцијале имају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мембранске потенцијале који се након сваког импулса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риближавају нивоу прага окидањ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акав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едводнички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отенција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или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препотенцијал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узрокује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астанак следећег акционог потенција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je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физиолошким условим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предводник срчаног рит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en-US" sz="2300" spc="-1" strike="noStrike">
                <a:solidFill>
                  <a:srgbClr val="000000"/>
                </a:solidFill>
                <a:latin typeface="Arial"/>
              </a:rPr>
              <a:t>pacemake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одређеним патолошким стањима када је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 супримиран, улогу предводника срчаног ритма преузим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вор, Хисов сноп или Пуркињеова влакна, због чега се ови делови спроводног система називају “латентним” предводницима срчаног ритм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Спроводни систем срца састављен је од модификованог срчаног мишића који има мање пруга и нејасне границ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кциони потенцијал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вор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фазе 1 и 2 које постоје у акционом потенцијалу преткомора, комора и Пуркињеових влакан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4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стабилан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мировни мембрански потенцијал или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пор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Настаје услед постојања канала који су пропустљиви за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и последичног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порог уласка јона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у ћели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2874960" y="47242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98" name="Oval 5"/>
          <p:cNvSpPr/>
          <p:nvPr/>
        </p:nvSpPr>
        <p:spPr>
          <a:xfrm>
            <a:off x="3635280" y="5805360"/>
            <a:ext cx="2890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Ови канали се активирају одмах након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хиперполаризаци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по завршеној реполаризацији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зивају се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анали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ли због њихове неуобичајене (енгл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n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мешне) активације називају се и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”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анали, а струја која настаје проласком јона кроз ове канале назива се смешна струја или „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”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труј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unny curr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2874960" y="429084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02" name="Oval 5"/>
          <p:cNvSpPr/>
          <p:nvPr/>
        </p:nvSpPr>
        <p:spPr>
          <a:xfrm>
            <a:off x="3635280" y="537372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Straight Arrow Connector 9"/>
          <p:cNvCxnSpPr/>
          <p:nvPr/>
        </p:nvCxnSpPr>
        <p:spPr>
          <a:xfrm flipV="1">
            <a:off x="4716000" y="5832000"/>
            <a:ext cx="1080" cy="550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4" name="TextBox 11"/>
          <p:cNvSpPr/>
          <p:nvPr/>
        </p:nvSpPr>
        <p:spPr>
          <a:xfrm>
            <a:off x="3708360" y="6308640"/>
            <a:ext cx="352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Хиперполаризација и активација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„h” </a:t>
            </a:r>
            <a:r>
              <a:rPr b="0" lang="sr-CS" sz="1600" spc="-1" strike="noStrike">
                <a:solidFill>
                  <a:srgbClr val="ff0000"/>
                </a:solidFill>
                <a:latin typeface="Arial"/>
              </a:rPr>
              <a:t>канала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0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брз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степено повећање мембранског потенцијала током фазе 4 изазива отварање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порих)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лцијумских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нал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след отварањ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а 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лазе у ћелију у изазивају деполариза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 разлику од фазе 0 у преткоморама, коморама и Пуркињеовим влакнима која настаје услед уласка јон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0 у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у настаје услед уласка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874960" y="47242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08" name="Oval 5"/>
          <p:cNvSpPr/>
          <p:nvPr/>
        </p:nvSpPr>
        <p:spPr>
          <a:xfrm>
            <a:off x="3851280" y="530064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а 3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На врху сваког импулса повећава се пропустљивост мембране за калијум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и повећан излазак јона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ћелије изазива реполариза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Фазе 1 и 2 акционог потенцијала претокомора, комора и Пуркињеових влакан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 постој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акционом потенцијалу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чв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2874960" y="4362480"/>
            <a:ext cx="3780000" cy="1730520"/>
          </a:xfrm>
          <a:prstGeom prst="rect">
            <a:avLst/>
          </a:prstGeom>
          <a:ln w="0">
            <a:noFill/>
          </a:ln>
        </p:spPr>
      </p:pic>
      <p:sp>
        <p:nvSpPr>
          <p:cNvPr id="112" name="Oval 5"/>
          <p:cNvSpPr/>
          <p:nvPr/>
        </p:nvSpPr>
        <p:spPr>
          <a:xfrm>
            <a:off x="4427640" y="4941720"/>
            <a:ext cx="360360" cy="358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Фаза 4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краћ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траје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чвор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а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дуж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Хис-Пуркињеовом систему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Зато је у физиолошким условима 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предводник срчаног ритм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Брзина стварања импулса у појединим деловима спроводног систем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SA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чвор – од 60 до 100 импулса у мину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чвор – од 40 до 60 импулса и минуту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уркињеова влакна – од 15 до 40 импулса у мину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SA 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чвора, </a:t>
            </a:r>
            <a:r>
              <a:rPr b="0" lang="sr-Latn-CS" sz="2800" spc="-1" strike="noStrike">
                <a:solidFill>
                  <a:srgbClr val="7030a0"/>
                </a:solidFill>
                <a:latin typeface="Arial"/>
              </a:rPr>
              <a:t>AV</a:t>
            </a: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 чвора и Хисовог сно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Брзина спровођењ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мпулса је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ајмањ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AV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чвору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што даје довољно времена да се коморе напуне крвљу пре контракције, 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ајвећ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Пуркињеовим влакни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што омогућава да се сви делови комора контрахују истовремено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728720" y="3573360"/>
            <a:ext cx="5686560" cy="27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533160" y="837720"/>
            <a:ext cx="5376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Грађа ср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ве претко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Две комор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3200" spc="-1" strike="noStrike">
                <a:solidFill>
                  <a:srgbClr val="000000"/>
                </a:solidFill>
                <a:latin typeface="Arial"/>
              </a:rPr>
              <a:t>Четири залист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Атриовентрикуларн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трикуспидни ( три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митрални ( два кусписа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Семилунар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залистак аорт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sr-RS" sz="2400" spc="-1" strike="noStrike">
                <a:solidFill>
                  <a:srgbClr val="000000"/>
                </a:solidFill>
                <a:latin typeface="Arial"/>
              </a:rPr>
              <a:t>- залистак плућне артер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57160" indent="-457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"/>
          <p:cNvPicPr/>
          <p:nvPr/>
        </p:nvPicPr>
        <p:blipFill>
          <a:blip r:embed="rId1"/>
          <a:stretch/>
        </p:blipFill>
        <p:spPr>
          <a:xfrm>
            <a:off x="4714920" y="357120"/>
            <a:ext cx="421488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оком фаза 0, 1 и 2, као и током половине фазе 3 акционог потенцијала комора и преткомора, односно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док мембрански потенцијал не достигне приближно –50 mV за време реполаризације, срчани мишић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не може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 бити поново надражен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Током ових фаза акционог потенцијала срчани мишић се налази у </a:t>
            </a:r>
            <a:r>
              <a:rPr b="1" lang="ru-RU" sz="2300" spc="-1" strike="noStrike">
                <a:solidFill>
                  <a:srgbClr val="000000"/>
                </a:solidFill>
                <a:latin typeface="Arial"/>
              </a:rPr>
              <a:t>апсолутном рефракторном периоду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Апсолутни рефрактарни период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редставља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време током кога акциони потенцијал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не може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да се изазове без обзира на јачину стимулуса, јер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који узрокују деполаризацију још увек у инактивираном стањ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Друга половина реполаризације представљ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лативни 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ефрактарни период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24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оком релативног рефрактарног периода акциони потенцијал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мож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да се изазове, али је потребан знатно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тимулус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јер је део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а још увек у инактивираном стању, а К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су још увек отворен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Постојање дугог рефрактарног периода спречава тетанизацију срчаног мишића, која би била летална у било ком период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2700360" y="3860640"/>
            <a:ext cx="3743280" cy="2900520"/>
          </a:xfrm>
          <a:prstGeom prst="rect">
            <a:avLst/>
          </a:prstGeom>
          <a:ln w="0">
            <a:noFill/>
          </a:ln>
        </p:spPr>
      </p:pic>
      <p:sp>
        <p:nvSpPr>
          <p:cNvPr id="129" name="Oval 4"/>
          <p:cNvSpPr/>
          <p:nvPr/>
        </p:nvSpPr>
        <p:spPr>
          <a:xfrm>
            <a:off x="3887640" y="5842080"/>
            <a:ext cx="54000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Oval 5"/>
          <p:cNvSpPr/>
          <p:nvPr/>
        </p:nvSpPr>
        <p:spPr>
          <a:xfrm>
            <a:off x="4751280" y="5842080"/>
            <a:ext cx="541440" cy="539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Контрактилни одговор срчаног мишића започиње </a:t>
            </a: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непосредно након почетка деполаризације, при чему је време трајања контракције приближно 50% дуже од времена трајања акционог потенцијал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Arial"/>
              </a:rPr>
              <a:t>Ћелијска мембрана кардиомиоцита прави дубоке инвагинације у области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-линија које се називају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-тубул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Т-тубули омогућавају преношење акционог потенцијала у унутрашњост ћелиј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ркоплазматск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тикулум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чине тубули малог дијаметра који се налазе у близини контрактилних филамена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аркоплазматски ретикулум представља депо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и је неопходан за контракциј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1"/>
          <a:stretch/>
        </p:blipFill>
        <p:spPr>
          <a:xfrm>
            <a:off x="882720" y="765000"/>
            <a:ext cx="7378560" cy="5896080"/>
          </a:xfrm>
          <a:prstGeom prst="rect">
            <a:avLst/>
          </a:prstGeom>
          <a:ln w="0">
            <a:noFill/>
          </a:ln>
        </p:spPr>
      </p:pic>
      <p:sp>
        <p:nvSpPr>
          <p:cNvPr id="135" name="TextBox 4"/>
          <p:cNvSpPr/>
          <p:nvPr/>
        </p:nvSpPr>
        <p:spPr>
          <a:xfrm>
            <a:off x="826920" y="6237360"/>
            <a:ext cx="289080" cy="36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а разлику од скелетног мишића где се са стране Т-тубула налазе цистерне саркоплазматског ретикулума, образујући тријаде, у срчаном мишићу нема тако правилног распореда ових структу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У мембрани Т-тубула се налазе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дихидропиридински рецептори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DHP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, који су волтаж-завис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 и који се активирају током деполаризације и омогућавају улазак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екстрацелуларног простора у кардиомиоцит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екстрацелуларног простора се везује з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ијанодинск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цептор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300" spc="-1" strike="noStrike">
                <a:solidFill>
                  <a:srgbClr val="000000"/>
                </a:solidFill>
                <a:latin typeface="Arial"/>
              </a:rPr>
              <a:t>RyR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) на саркоплазматском ретикулум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Ријанодински рецептори су лиганд-завис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анали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Лиганд за ријанодинске рецепторе ј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и улази у кардиомиоците из екстрацелуларног простор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бог тога се ослобађањ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саркоплзматског ретикулума, посредством ријанодинских рецептора, који се активирају дејсвом екстрацепуларног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који улази кроз дихидропиридинске рецепторе, назива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калцијумом индуковано ослобађање калцијум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3" descr=""/>
          <p:cNvPicPr/>
          <p:nvPr/>
        </p:nvPicPr>
        <p:blipFill>
          <a:blip r:embed="rId1"/>
          <a:stretch/>
        </p:blipFill>
        <p:spPr>
          <a:xfrm>
            <a:off x="1332000" y="3798720"/>
            <a:ext cx="6654600" cy="3059280"/>
          </a:xfrm>
          <a:prstGeom prst="rect">
            <a:avLst/>
          </a:prstGeom>
          <a:ln w="0">
            <a:noFill/>
          </a:ln>
        </p:spPr>
      </p:pic>
      <p:sp>
        <p:nvSpPr>
          <p:cNvPr id="141" name="TextBox 5"/>
          <p:cNvSpPr/>
          <p:nvPr/>
        </p:nvSpPr>
        <p:spPr>
          <a:xfrm>
            <a:off x="1258920" y="3789360"/>
            <a:ext cx="10094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рц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Box 6"/>
          <p:cNvSpPr/>
          <p:nvPr/>
        </p:nvSpPr>
        <p:spPr>
          <a:xfrm>
            <a:off x="5435640" y="3789360"/>
            <a:ext cx="223200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елетни миши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Box 7"/>
          <p:cNvSpPr/>
          <p:nvPr/>
        </p:nvSpPr>
        <p:spPr>
          <a:xfrm>
            <a:off x="3361680" y="4221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Box 8"/>
          <p:cNvSpPr/>
          <p:nvPr/>
        </p:nvSpPr>
        <p:spPr>
          <a:xfrm>
            <a:off x="3836520" y="5445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Box 10"/>
          <p:cNvSpPr/>
          <p:nvPr/>
        </p:nvSpPr>
        <p:spPr>
          <a:xfrm>
            <a:off x="2612520" y="536400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Box 11"/>
          <p:cNvSpPr/>
          <p:nvPr/>
        </p:nvSpPr>
        <p:spPr>
          <a:xfrm>
            <a:off x="681768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Box 12"/>
          <p:cNvSpPr/>
          <p:nvPr/>
        </p:nvSpPr>
        <p:spPr>
          <a:xfrm>
            <a:off x="4080960" y="644364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</a:t>
            </a:r>
            <a:r>
              <a:rPr b="0" lang="sr-CS" sz="1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Box 13"/>
          <p:cNvSpPr/>
          <p:nvPr/>
        </p:nvSpPr>
        <p:spPr>
          <a:xfrm>
            <a:off x="1763640" y="4221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4"/>
          <p:cNvSpPr/>
          <p:nvPr/>
        </p:nvSpPr>
        <p:spPr>
          <a:xfrm>
            <a:off x="5940360" y="422100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поларизациј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Контрактилни одговор кардиомиоци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3"/>
          <p:cNvSpPr/>
          <p:nvPr/>
        </p:nvSpPr>
        <p:spPr>
          <a:xfrm>
            <a:off x="318960" y="1125360"/>
            <a:ext cx="8506080" cy="54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Због омогућавања релаксације срчаног мишића и пуњења срца крвљу врло је значајно адекватно уклањање јона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цитоплазме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враћају у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ркоплазматски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ретикулум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посредством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SERCA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SR 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(саркоплазматска)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C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 ATP-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аза)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Јони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се из цитоплазме кардиомиоцита избацују у екстрацелуларни простор посредством 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/Ca</a:t>
            </a:r>
            <a:r>
              <a:rPr b="1" lang="sr-Latn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Latn-CS" sz="2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измењивача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, на чију функцију утиче концентрација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3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у цитоплазми (коју контролише </a:t>
            </a:r>
            <a:r>
              <a:rPr b="0" lang="sr-Latn-CS" sz="2300" spc="-1" strike="noStrike">
                <a:solidFill>
                  <a:srgbClr val="000000"/>
                </a:solidFill>
                <a:latin typeface="Arial"/>
              </a:rPr>
              <a:t>Na, K </a:t>
            </a: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ATP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-аза), као и дејством 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1" lang="sr-CS" sz="2300" spc="-1" strike="noStrike">
                <a:solidFill>
                  <a:srgbClr val="000000"/>
                </a:solidFill>
                <a:latin typeface="Arial"/>
              </a:rPr>
              <a:t> пумпе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која се налази на ћелијској мембрани кардиомиоцита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Ефикасно уклањање Са</a:t>
            </a:r>
            <a:r>
              <a:rPr b="0" lang="sr-CS" sz="23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300" spc="-1" strike="noStrike">
                <a:solidFill>
                  <a:srgbClr val="000000"/>
                </a:solidFill>
                <a:latin typeface="Arial"/>
              </a:rPr>
              <a:t> из цитоплазме помоћу наведених система омогућава релаксацију миокарда и адекватно пуњење комора крвљу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7" descr="E:\DOKUMENTI\Nimda dokumenti\memo grb.png"/>
          <p:cNvPicPr/>
          <p:nvPr/>
        </p:nvPicPr>
        <p:blipFill>
          <a:blip r:embed="rId1"/>
          <a:stretch/>
        </p:blipFill>
        <p:spPr>
          <a:xfrm>
            <a:off x="1979640" y="260280"/>
            <a:ext cx="5329080" cy="836640"/>
          </a:xfrm>
          <a:prstGeom prst="rect">
            <a:avLst/>
          </a:prstGeom>
          <a:ln w="0">
            <a:noFill/>
          </a:ln>
        </p:spPr>
      </p:pic>
      <p:sp>
        <p:nvSpPr>
          <p:cNvPr id="153" name="Rectangle 8"/>
          <p:cNvSpPr/>
          <p:nvPr/>
        </p:nvSpPr>
        <p:spPr>
          <a:xfrm>
            <a:off x="2556000" y="2781360"/>
            <a:ext cx="411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RS" sz="3600" spc="-1" strike="noStrike">
                <a:solidFill>
                  <a:srgbClr val="000000"/>
                </a:solidFill>
                <a:latin typeface="Arial"/>
              </a:rPr>
              <a:t>Срчани циклу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14" descr="animacija"/>
          <p:cNvPicPr/>
          <p:nvPr/>
        </p:nvPicPr>
        <p:blipFill>
          <a:blip r:embed="rId1"/>
          <a:stretch/>
        </p:blipFill>
        <p:spPr>
          <a:xfrm>
            <a:off x="2127240" y="1920960"/>
            <a:ext cx="5214960" cy="46036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15"/>
          <p:cNvSpPr/>
          <p:nvPr/>
        </p:nvSpPr>
        <p:spPr>
          <a:xfrm>
            <a:off x="914400" y="525600"/>
            <a:ext cx="7343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’’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АКО СРЦЕ СВАКОДНЕВНО МОЖЕ ДА ОСТВАРИ ОКО 100.000 ОТКУЦАЈА ОНДА И МИ  МОЖЕМО ДА УСВОЈИМО СВАКУ ФИНЕСУ О СРЧАНОМ ЦИКЛУСУ’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Резултат слика за srcani zalisci"/>
          <p:cNvPicPr/>
          <p:nvPr/>
        </p:nvPicPr>
        <p:blipFill>
          <a:blip r:embed="rId1"/>
          <a:stretch/>
        </p:blipFill>
        <p:spPr>
          <a:xfrm>
            <a:off x="1116000" y="836640"/>
            <a:ext cx="6912000" cy="540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5"/>
          <p:cNvSpPr/>
          <p:nvPr/>
        </p:nvSpPr>
        <p:spPr>
          <a:xfrm>
            <a:off x="2627280" y="549360"/>
            <a:ext cx="39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РЧАНИ ЗАЛИСЦ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79280" y="1341360"/>
            <a:ext cx="3935520" cy="173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А-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V</a:t>
            </a: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sr-Latn-CS" sz="1600" spc="-1" strike="noStrike" u="sng">
                <a:solidFill>
                  <a:srgbClr val="000000"/>
                </a:solidFill>
                <a:uFillTx/>
                <a:latin typeface="Arial"/>
              </a:rPr>
              <a:t>(atrio-ventrikularne)</a:t>
            </a:r>
            <a:r>
              <a:rPr b="0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валвуле (трикуспидална и митрална валвула) спречавају да се крв за време систоле враћа из комора у претком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4"/>
          <p:cNvSpPr/>
          <p:nvPr/>
        </p:nvSpPr>
        <p:spPr>
          <a:xfrm>
            <a:off x="179280" y="263700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 u="sng">
                <a:solidFill>
                  <a:srgbClr val="000000"/>
                </a:solidFill>
                <a:uFillTx/>
                <a:latin typeface="Arial"/>
              </a:rPr>
              <a:t>Семилунарне валвуле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 (валвула аорте и валвула пулмоналне артерије) за време дијастоле спречавају да се крв враћа из аорте и плућне артерије у комор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Срчане валвуле се пасивно отварају и затварају као последица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градијента притис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Резултат слика за srcani zalisci"/>
          <p:cNvPicPr/>
          <p:nvPr/>
        </p:nvPicPr>
        <p:blipFill>
          <a:blip r:embed="rId1"/>
          <a:stretch/>
        </p:blipFill>
        <p:spPr>
          <a:xfrm>
            <a:off x="3780000" y="1844640"/>
            <a:ext cx="5929200" cy="458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5"/>
          <p:cNvSpPr/>
          <p:nvPr/>
        </p:nvSpPr>
        <p:spPr>
          <a:xfrm>
            <a:off x="1332000" y="477360"/>
            <a:ext cx="655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816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ПАПИЛАРНИ МИШИЋ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6" descr=""/>
          <p:cNvPicPr/>
          <p:nvPr/>
        </p:nvPicPr>
        <p:blipFill>
          <a:blip r:embed="rId1"/>
          <a:stretch/>
        </p:blipFill>
        <p:spPr>
          <a:xfrm>
            <a:off x="4284720" y="1268280"/>
            <a:ext cx="4613040" cy="482616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7"/>
          <p:cNvSpPr/>
          <p:nvPr/>
        </p:nvSpPr>
        <p:spPr>
          <a:xfrm>
            <a:off x="179280" y="2060640"/>
            <a:ext cx="417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апиларни мишићи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chordae tendineae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чвршћују за ивице валвула се контрахују када се зидови комора контрахују, и не помажу затварање валвула. Њихова функција је да вуку залиске у коморе, па се за време систоле комора валвуле не могу превише избочити у преткомор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0" y="54144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Срчани циклус – период од почетка једне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нтракције до почетка друге контрак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астоји се од: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систоле (контракције)                             дијастоле (релаксациј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sis"/>
          <p:cNvPicPr/>
          <p:nvPr/>
        </p:nvPicPr>
        <p:blipFill>
          <a:blip r:embed="rId1"/>
          <a:stretch/>
        </p:blipFill>
        <p:spPr>
          <a:xfrm>
            <a:off x="0" y="3168720"/>
            <a:ext cx="2811600" cy="368928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5" descr="dij"/>
          <p:cNvPicPr/>
          <p:nvPr/>
        </p:nvPicPr>
        <p:blipFill>
          <a:blip r:embed="rId2"/>
          <a:stretch/>
        </p:blipFill>
        <p:spPr>
          <a:xfrm>
            <a:off x="6329520" y="3173400"/>
            <a:ext cx="2814480" cy="3684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2" descr="C:\Users\Vladimir Zivkovic\Desktop\GANONG\SLIKE\XXX POGLAVLjE\PNG\Gan024_Slika_30-01.png"/>
          <p:cNvPicPr/>
          <p:nvPr/>
        </p:nvPicPr>
        <p:blipFill>
          <a:blip r:embed="rId1"/>
          <a:srcRect l="0" t="0" r="0" b="53430"/>
          <a:stretch/>
        </p:blipFill>
        <p:spPr>
          <a:xfrm>
            <a:off x="1116000" y="2997360"/>
            <a:ext cx="7745400" cy="36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КОНТРАК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C:\Users\Vladimir Zivkovic\Desktop\GANONG\SLIKE\XXX POGLAVLjE\PNG\Gan024_Slika_30-01.png"/>
          <p:cNvPicPr/>
          <p:nvPr/>
        </p:nvPicPr>
        <p:blipFill>
          <a:blip r:embed="rId1"/>
          <a:srcRect l="0" t="0" r="53848" b="53430"/>
          <a:stretch/>
        </p:blipFill>
        <p:spPr>
          <a:xfrm>
            <a:off x="4572000" y="2133720"/>
            <a:ext cx="4321080" cy="431964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324000" y="2276640"/>
            <a:ext cx="4572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На почетку систоле комора, АV залисци се затварају, а семилунарни залисци се још нису отво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ски мишић се мало скрати, интравентрикуларни притисак нагло расте (миокард притиска крв у коморам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- Овај период </a:t>
            </a:r>
            <a:r>
              <a:rPr b="0" lang="ru-RU" sz="1800" spc="-1" strike="noStrike">
                <a:solidFill>
                  <a:srgbClr val="000000"/>
                </a:solidFill>
                <a:latin typeface="MinionPro-Regular"/>
              </a:rPr>
              <a:t>траје око 0,05 секунди, све док притисак у левој и десној комори не надвлада притиске у </a:t>
            </a:r>
            <a:r>
              <a:rPr b="0" lang="en-US" sz="1800" spc="-1" strike="noStrike">
                <a:solidFill>
                  <a:srgbClr val="000000"/>
                </a:solidFill>
                <a:latin typeface="MinionPro-Regular"/>
              </a:rPr>
              <a:t>аорти и плућној артериј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ФАЗА ИЗБАЦИВАЊА (ЕЈЕКЦИЈЕ) КРВ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фаза брз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фаза спорог избацивања крв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4"/>
          <p:cNvSpPr/>
          <p:nvPr/>
        </p:nvSpPr>
        <p:spPr>
          <a:xfrm>
            <a:off x="395280" y="2852640"/>
            <a:ext cx="45720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да притисак у левој и десној комори надвлада притиске у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орти (80 mmHg) и плућној артерији (10 mmHg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ази до отварања аортних и плућних залистак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- Ејекција је у почетку брза, а у даљем току систоле се успора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2" descr="C:\Users\Vladimir Zivkovic\Desktop\GANONG\SLIKE\XXX POGLAVLjE\PNG\Gan024_Slika_30-01.png"/>
          <p:cNvPicPr/>
          <p:nvPr/>
        </p:nvPicPr>
        <p:blipFill>
          <a:blip r:embed="rId1"/>
          <a:srcRect l="46558" t="0" r="0" b="53430"/>
          <a:stretch/>
        </p:blipFill>
        <p:spPr>
          <a:xfrm>
            <a:off x="5148360" y="2492280"/>
            <a:ext cx="460836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СИ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24000" y="1483920"/>
            <a:ext cx="8229600" cy="40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јвиши притисак у левој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мори износи око 120 mmHg, а у десној око 25 mmH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дарни волумен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се сваком контракцијом комора у мировању избаци (70–90 m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нд-систолни волумен комор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личина крви која остаје у коморама на крају систоле (50 – 60 ml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-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ценат енд-дијастолног волумена (130-140 ml) који се избаци при свакој систоли (око 65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јекциона фракција је значаја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казатељ функциј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Минутни волумен -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мина крви коју срце испумпа током једног минута (у миру износи 4-6 L/мин), једнака је производу ударног волумена и фреквенције ср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рана фаза 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фаза спорог пуњења комора (дијаст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систола претком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C:\Users\Vladimir Zivkovic\Desktop\GANONG\SLIKE\XXX POGLAVLjE\PNG\Gan024_Slika_30-01.png"/>
          <p:cNvPicPr/>
          <p:nvPr/>
        </p:nvPicPr>
        <p:blipFill>
          <a:blip r:embed="rId1"/>
          <a:srcRect l="0" t="46576" r="0" b="0"/>
          <a:stretch/>
        </p:blipFill>
        <p:spPr>
          <a:xfrm>
            <a:off x="1332000" y="2924280"/>
            <a:ext cx="662472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ФАЗА ИЗОВОЛУМЕТРИЈСКЕ РЕЛАКС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2" descr="C:\Users\Vladimir Zivkovic\Desktop\GANONG\SLIKE\XXX POGLAVLjE\PNG\Gan024_Slika_30-01.png"/>
          <p:cNvPicPr/>
          <p:nvPr/>
        </p:nvPicPr>
        <p:blipFill>
          <a:blip r:embed="rId1"/>
          <a:srcRect l="0" t="46576" r="64134" b="0"/>
          <a:stretch/>
        </p:blipFill>
        <p:spPr>
          <a:xfrm>
            <a:off x="4998960" y="2276640"/>
            <a:ext cx="3894120" cy="4321080"/>
          </a:xfrm>
          <a:prstGeom prst="rect">
            <a:avLst/>
          </a:prstGeom>
          <a:ln w="0">
            <a:noFill/>
          </a:ln>
        </p:spPr>
      </p:pic>
      <p:sp>
        <p:nvSpPr>
          <p:cNvPr id="185" name="Rectangle 4"/>
          <p:cNvSpPr/>
          <p:nvPr/>
        </p:nvSpPr>
        <p:spPr>
          <a:xfrm>
            <a:off x="8229600" y="3068640"/>
            <a:ext cx="9144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324000" y="1916280"/>
            <a:ext cx="4572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Када се залисци затворe, притисак наставља брзо да п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милунарни залисци су затворени, а   АV залисци се још нису отвори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Ова фаза се завршава када коморс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итисак падне испод притиска у преткоморама и АV залисци се отворе, омогућавајући пуњење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65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d33ff"/>
                </a:solidFill>
                <a:latin typeface="MyriadPro-Black"/>
              </a:rPr>
              <a:t>ДИЈАСТОЛА КОМОР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17928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 ФАЗА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) рана фаза брзог пуњења 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) фаза спорог пуњења комора (дијастаз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) касна фаза брзог пуњења комора (систола преткомор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C:\Users\Vladimir Zivkovic\Desktop\GANONG\SLIKE\XXX POGLAVLjE\PNG\Gan024_Slika_30-01.png"/>
          <p:cNvPicPr/>
          <p:nvPr/>
        </p:nvPicPr>
        <p:blipFill>
          <a:blip r:embed="rId1"/>
          <a:srcRect l="32539" t="46576" r="0" b="0"/>
          <a:stretch/>
        </p:blipFill>
        <p:spPr>
          <a:xfrm>
            <a:off x="4356000" y="2708280"/>
            <a:ext cx="4788000" cy="396072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4"/>
          <p:cNvSpPr/>
          <p:nvPr/>
        </p:nvSpPr>
        <p:spPr>
          <a:xfrm>
            <a:off x="17928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- АV залисци су отворени, 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ортни и пулмонални залисци затворе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рв из преткомора утиче у коморе најпре брзо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на фаза брзог пуњења комора), потом споро-пасивно (дијастаза), док се преосталих 25-30% крви избаци систолом (контракцијом) преткомо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7030a0"/>
                </a:solidFill>
                <a:latin typeface="Arial"/>
              </a:rPr>
              <a:t>Особине ср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е 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иокарда имају мембрански потенцијал мировања од око -90 m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Мишићне ћелиј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су међусобно раздвојен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ћелијским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мембранама, али се деполаризација, захваљујући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розним веза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gap junction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 које се налазе у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нтеркалатним дисковима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sr-Latn-CS" sz="2400" spc="-1" strike="noStrike">
                <a:solidFill>
                  <a:srgbClr val="000000"/>
                </a:solidFill>
                <a:latin typeface="Arial"/>
              </a:rPr>
              <a:t>discus intercalatus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шири радијално</a:t>
            </a:r>
            <a:r>
              <a:rPr b="0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роз миокард, услед чега се срце понаша као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електрични синцицијум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"/>
          <p:cNvPicPr/>
          <p:nvPr/>
        </p:nvPicPr>
        <p:blipFill>
          <a:blip r:embed="rId1"/>
          <a:stretch/>
        </p:blipFill>
        <p:spPr>
          <a:xfrm>
            <a:off x="3276720" y="4365720"/>
            <a:ext cx="5688000" cy="196056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250920" y="509256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снова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  <a:ea typeface="Arial"/>
              </a:rPr>
              <a:t>„синцицијумске” природе срчаног 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6920" y="333360"/>
            <a:ext cx="78264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042560" y="2349000"/>
            <a:ext cx="7047000" cy="286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рајање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– око 0,8 секунди (фреквенца 70-80/мин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ола комора – 1/3 времена – 0,3 секу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стола комора – 2/3 времена – 0,5 секунд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стола преткомора – 0,1 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ијастола преткомора – 0,7 се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4000" y="404640"/>
            <a:ext cx="78246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7030a0"/>
                </a:solidFill>
                <a:latin typeface="Arial"/>
              </a:rPr>
              <a:t>Временски аспекти срчаног циклуса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7704360" cy="366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Са повећањем фреквенције срца, срчани циклус се скраћу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краћење трајања систоле је последица скраћења фазе ејекције у систол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рајање дијастоле се са повећањем фреквенције више смању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чани мишић мирује током дијастоле, и коронарни проток крви кроз субендокардне делове леве коморе остварује се само у току дијастоле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исоким фреквенцијама пуњење је адекватно све док постоји довољан венски прилив, а минутни волумен срца расте на рачун повећања фреквен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 високим фреквенцијама, пуњење може бити компромитовано до тог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а да се смањи минутни волумен ср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Будући да има продужен акциони потенцијал, срчани мишић није у стању да реагује контракцијом на нови стимулус све до пред крај иницијалне контракције - </a:t>
            </a:r>
            <a:r>
              <a:rPr b="0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не може доћи до тетанизације срчаног мишић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Line 1026"/>
          <p:cNvSpPr/>
          <p:nvPr/>
        </p:nvSpPr>
        <p:spPr>
          <a:xfrm>
            <a:off x="2195640" y="1916280"/>
            <a:ext cx="7999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027"/>
          <p:cNvSpPr/>
          <p:nvPr/>
        </p:nvSpPr>
        <p:spPr>
          <a:xfrm flipH="1">
            <a:off x="4284360" y="198900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028"/>
          <p:cNvSpPr/>
          <p:nvPr/>
        </p:nvSpPr>
        <p:spPr>
          <a:xfrm flipV="1">
            <a:off x="2340000" y="3716280"/>
            <a:ext cx="68580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029"/>
          <p:cNvSpPr/>
          <p:nvPr/>
        </p:nvSpPr>
        <p:spPr>
          <a:xfrm flipH="1" flipV="1">
            <a:off x="4211280" y="3789360"/>
            <a:ext cx="685800" cy="1028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030"/>
          <p:cNvSpPr/>
          <p:nvPr/>
        </p:nvSpPr>
        <p:spPr>
          <a:xfrm>
            <a:off x="960480" y="844920"/>
            <a:ext cx="138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031"/>
          <p:cNvSpPr/>
          <p:nvPr/>
        </p:nvSpPr>
        <p:spPr>
          <a:xfrm>
            <a:off x="1795680" y="205272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033"/>
          <p:cNvSpPr/>
          <p:nvPr/>
        </p:nvSpPr>
        <p:spPr>
          <a:xfrm>
            <a:off x="179280" y="447840"/>
            <a:ext cx="87138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                                              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Фактори који утичу на минутни волумен срц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Rectangle 1034"/>
          <p:cNvSpPr/>
          <p:nvPr/>
        </p:nvSpPr>
        <p:spPr>
          <a:xfrm>
            <a:off x="539640" y="1413360"/>
            <a:ext cx="2793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Фреквенција срц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1035"/>
          <p:cNvSpPr/>
          <p:nvPr/>
        </p:nvSpPr>
        <p:spPr>
          <a:xfrm>
            <a:off x="4643280" y="1125360"/>
            <a:ext cx="177660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468360" y="4383360"/>
            <a:ext cx="287964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онтрактилност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037"/>
          <p:cNvSpPr/>
          <p:nvPr/>
        </p:nvSpPr>
        <p:spPr>
          <a:xfrm>
            <a:off x="4427640" y="472536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RS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o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1038"/>
          <p:cNvSpPr/>
          <p:nvPr/>
        </p:nvSpPr>
        <p:spPr>
          <a:xfrm>
            <a:off x="2987640" y="3152880"/>
            <a:ext cx="1446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1" lang="sr-Latn-RS" sz="2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Oval 1039"/>
          <p:cNvSpPr/>
          <p:nvPr/>
        </p:nvSpPr>
        <p:spPr>
          <a:xfrm>
            <a:off x="3132000" y="2852640"/>
            <a:ext cx="1152720" cy="10080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4"/>
          <p:cNvSpPr/>
          <p:nvPr/>
        </p:nvSpPr>
        <p:spPr>
          <a:xfrm>
            <a:off x="468360" y="5445000"/>
            <a:ext cx="8064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RELOAD 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срчана мишићна влакна истегнута оптерећењем,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епен до кога се миокард истеже пре контракциј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FTERLOAD –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птерећење притиском,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накнадно оптерећење представља отпор против кога се крв истискује из комо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2" descr="150px-Otto_frank_physiologist"/>
          <p:cNvPicPr/>
          <p:nvPr/>
        </p:nvPicPr>
        <p:blipFill>
          <a:blip r:embed="rId1"/>
          <a:stretch/>
        </p:blipFill>
        <p:spPr>
          <a:xfrm>
            <a:off x="2195640" y="1916280"/>
            <a:ext cx="1698480" cy="23047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3" descr="150px-Ernest_Starling"/>
          <p:cNvPicPr/>
          <p:nvPr/>
        </p:nvPicPr>
        <p:blipFill>
          <a:blip r:embed="rId2"/>
          <a:stretch/>
        </p:blipFill>
        <p:spPr>
          <a:xfrm>
            <a:off x="6394320" y="1916280"/>
            <a:ext cx="1863720" cy="2233440"/>
          </a:xfrm>
          <a:prstGeom prst="rect">
            <a:avLst/>
          </a:prstGeom>
          <a:ln w="0">
            <a:noFill/>
          </a:ln>
        </p:spPr>
      </p:pic>
      <p:sp>
        <p:nvSpPr>
          <p:cNvPr id="211" name="Rectangle 4"/>
          <p:cNvSpPr/>
          <p:nvPr/>
        </p:nvSpPr>
        <p:spPr>
          <a:xfrm>
            <a:off x="1993680" y="333360"/>
            <a:ext cx="5426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РЕГУЛАЦИЈА РАДА СРЦ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468360" y="1125360"/>
            <a:ext cx="828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Ауторегулација срчаног рада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(Frank-Starling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sr-RS" sz="22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Rectangle 6"/>
          <p:cNvSpPr/>
          <p:nvPr/>
        </p:nvSpPr>
        <p:spPr>
          <a:xfrm>
            <a:off x="1633680" y="4586400"/>
            <a:ext cx="261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to Fran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865 - 19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7"/>
          <p:cNvSpPr/>
          <p:nvPr/>
        </p:nvSpPr>
        <p:spPr>
          <a:xfrm>
            <a:off x="5183280" y="4580640"/>
            <a:ext cx="39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rnest Henry Star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1866 –19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8"/>
          <p:cNvSpPr/>
          <p:nvPr/>
        </p:nvSpPr>
        <p:spPr>
          <a:xfrm>
            <a:off x="324000" y="5661000"/>
            <a:ext cx="86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утономни нервни систе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импатички и парасимпатички нерв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1028"/>
          <p:cNvSpPr/>
          <p:nvPr/>
        </p:nvSpPr>
        <p:spPr>
          <a:xfrm>
            <a:off x="-58680" y="620640"/>
            <a:ext cx="9183240" cy="198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АУТОРЕГУЛАЦИЈА СРЧАНОГ РА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rank-Starling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1" lang="sr-RS" sz="2000" spc="-1" strike="noStrike">
                <a:solidFill>
                  <a:srgbClr val="000000"/>
                </a:solidFill>
                <a:latin typeface="Arial"/>
              </a:rPr>
              <a:t>в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закон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физиолошким границама</a:t>
            </a:r>
            <a:r>
              <a:rPr b="0" lang="sr-Latn-R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рце ће испумпати сву крв која у њега дође, н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звољавајући да се превелика количина крви накупљ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у венам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029"/>
          <p:cNvSpPr/>
          <p:nvPr/>
        </p:nvSpPr>
        <p:spPr>
          <a:xfrm>
            <a:off x="635040" y="3141720"/>
            <a:ext cx="6582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АУТОНОМНИ </a:t>
            </a:r>
            <a:r>
              <a:rPr b="1" lang="sr-RS" sz="2400" spc="-1" strike="noStrike">
                <a:solidFill>
                  <a:srgbClr val="000000"/>
                </a:solidFill>
                <a:latin typeface="Arial"/>
              </a:rPr>
              <a:t>ЕФЕКТИ НА СРЦ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"/>
          <p:cNvPicPr/>
          <p:nvPr/>
        </p:nvPicPr>
        <p:blipFill>
          <a:blip r:embed="rId1"/>
          <a:srcRect l="0" t="30823" r="0" b="49418"/>
          <a:stretch/>
        </p:blipFill>
        <p:spPr>
          <a:xfrm>
            <a:off x="34920" y="4508640"/>
            <a:ext cx="9109080" cy="115236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2"/>
          <a:srcRect l="0" t="-240" r="0" b="87550"/>
          <a:stretch/>
        </p:blipFill>
        <p:spPr>
          <a:xfrm>
            <a:off x="34920" y="3789360"/>
            <a:ext cx="9109080" cy="79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7030a0"/>
                </a:solidFill>
                <a:latin typeface="Arial"/>
              </a:rPr>
              <a:t>Акциони потенцијали срц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18960" y="1125000"/>
            <a:ext cx="850608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стоје разлике у изгледу акционих потенцијала у појединим деловима срц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Најупадљивија карактеристика акционог потенцијала кардиомиоцита преткомора, комора и Пуркињеових влакана је постојање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лато фазе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, услед чега контракција срчаног мишића траје знатно дуже у односу на скелетни мишић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"/>
          <p:cNvPicPr/>
          <p:nvPr/>
        </p:nvPicPr>
        <p:blipFill>
          <a:blip r:embed="rId1"/>
          <a:stretch/>
        </p:blipFill>
        <p:spPr>
          <a:xfrm>
            <a:off x="5286240" y="3573360"/>
            <a:ext cx="3822840" cy="28083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0" y="3860640"/>
            <a:ext cx="5508720" cy="26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Акциони потенцијал кардиомиоцита преткомора, комора и Пуркињеових влакана састоји се из следећих фаз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0 – д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1 – почетна р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2 – плато фаз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3 – реполаризациј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-176040">
              <a:spcBef>
                <a:spcPts val="249"/>
              </a:spcBef>
              <a:buClr>
                <a:srgbClr val="000000"/>
              </a:buClr>
              <a:buFont typeface="Arial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Фаза 4 – мировни мембрански потенција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0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 представљ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брзу д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уласк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јон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роз брзе, волтаж-зависне натријумске канале (натријумска струја,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200" spc="-1" strike="noStrike" baseline="-25000">
                <a:solidFill>
                  <a:srgbClr val="000000"/>
                </a:solidFill>
                <a:latin typeface="Arial"/>
              </a:rPr>
              <a:t>Na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при чему вердност мембранског потенцијала тежи да достигне равнотежни потенцијал за 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0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7" descr=""/>
          <p:cNvPicPr/>
          <p:nvPr/>
        </p:nvPicPr>
        <p:blipFill>
          <a:blip r:embed="rId1"/>
          <a:stretch/>
        </p:blipFill>
        <p:spPr>
          <a:xfrm>
            <a:off x="2708280" y="3213000"/>
            <a:ext cx="3727440" cy="3456000"/>
          </a:xfrm>
          <a:prstGeom prst="rect">
            <a:avLst/>
          </a:prstGeom>
          <a:ln w="0">
            <a:noFill/>
          </a:ln>
        </p:spPr>
      </p:pic>
      <p:sp>
        <p:nvSpPr>
          <p:cNvPr id="60" name="Oval 7"/>
          <p:cNvSpPr/>
          <p:nvPr/>
        </p:nvSpPr>
        <p:spPr>
          <a:xfrm>
            <a:off x="3635280" y="4653000"/>
            <a:ext cx="2890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Oval 8"/>
          <p:cNvSpPr/>
          <p:nvPr/>
        </p:nvSpPr>
        <p:spPr>
          <a:xfrm>
            <a:off x="3348000" y="602136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очетну р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затварања канала за натрију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Na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услед чега се смањује количина позитивног наелектрисања које улази у ћелију, и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отварања канала за калијум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Latn-CS" sz="2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sr-Latn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, услед чега се повећава количина позитивног наелектрисања које излази из ћелиј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"/>
          <p:cNvPicPr/>
          <p:nvPr/>
        </p:nvPicPr>
        <p:blipFill>
          <a:blip r:embed="rId1"/>
          <a:stretch/>
        </p:blipFill>
        <p:spPr>
          <a:xfrm>
            <a:off x="3041640" y="3141720"/>
            <a:ext cx="3060720" cy="28447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"/>
          <p:cNvPicPr/>
          <p:nvPr/>
        </p:nvPicPr>
        <p:blipFill>
          <a:blip r:embed="rId2"/>
          <a:stretch/>
        </p:blipFill>
        <p:spPr>
          <a:xfrm>
            <a:off x="3041640" y="5950080"/>
            <a:ext cx="3060720" cy="507960"/>
          </a:xfrm>
          <a:prstGeom prst="rect">
            <a:avLst/>
          </a:prstGeom>
          <a:ln w="0">
            <a:noFill/>
          </a:ln>
        </p:spPr>
      </p:pic>
      <p:sp>
        <p:nvSpPr>
          <p:cNvPr id="66" name="Oval 7"/>
          <p:cNvSpPr/>
          <p:nvPr/>
        </p:nvSpPr>
        <p:spPr>
          <a:xfrm>
            <a:off x="3924360" y="3141720"/>
            <a:ext cx="2872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8"/>
          <p:cNvSpPr/>
          <p:nvPr/>
        </p:nvSpPr>
        <p:spPr>
          <a:xfrm>
            <a:off x="3708360" y="5445000"/>
            <a:ext cx="28728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9"/>
          <p:cNvSpPr/>
          <p:nvPr/>
        </p:nvSpPr>
        <p:spPr>
          <a:xfrm>
            <a:off x="3708360" y="6093000"/>
            <a:ext cx="28728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2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лато фаз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акционог потенцијал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пролазног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опустљивост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мембране з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алцијум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 услед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оријег и продуженог отварања волтаж-зависних канала за калцијум и уласка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у кардиомиоците (C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струја, I</a:t>
            </a:r>
            <a:r>
              <a:rPr b="0" lang="sr-CS" sz="2200" spc="-1" strike="noStrike" baseline="-25000">
                <a:solidFill>
                  <a:srgbClr val="000000"/>
                </a:solidFill>
                <a:latin typeface="Arial"/>
              </a:rPr>
              <a:t>C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, као и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мањењ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проводљивости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за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"/>
          <p:cNvPicPr/>
          <p:nvPr/>
        </p:nvPicPr>
        <p:blipFill>
          <a:blip r:embed="rId1"/>
          <a:stretch/>
        </p:blipFill>
        <p:spPr>
          <a:xfrm>
            <a:off x="5746680" y="3141720"/>
            <a:ext cx="3384720" cy="24652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8" descr=""/>
          <p:cNvPicPr/>
          <p:nvPr/>
        </p:nvPicPr>
        <p:blipFill>
          <a:blip r:embed="rId2"/>
          <a:stretch/>
        </p:blipFill>
        <p:spPr>
          <a:xfrm>
            <a:off x="5746680" y="5589720"/>
            <a:ext cx="3384720" cy="1157040"/>
          </a:xfrm>
          <a:prstGeom prst="rect">
            <a:avLst/>
          </a:prstGeom>
          <a:ln w="0">
            <a:noFill/>
          </a:ln>
        </p:spPr>
      </p:pic>
      <p:sp>
        <p:nvSpPr>
          <p:cNvPr id="73" name="TextBox 7"/>
          <p:cNvSpPr/>
          <p:nvPr/>
        </p:nvSpPr>
        <p:spPr>
          <a:xfrm>
            <a:off x="0" y="3284640"/>
            <a:ext cx="529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0280" indent="-3542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Количина Са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оја уђе у кардиомиоците и К</a:t>
            </a:r>
            <a:r>
              <a:rPr b="0" lang="sr-CS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која изађе је приближно иста, па се потенцијал мембране одржава на плато нивоу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30280" indent="-354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8"/>
          <p:cNvSpPr/>
          <p:nvPr/>
        </p:nvSpPr>
        <p:spPr>
          <a:xfrm>
            <a:off x="7236000" y="335772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9"/>
          <p:cNvSpPr/>
          <p:nvPr/>
        </p:nvSpPr>
        <p:spPr>
          <a:xfrm>
            <a:off x="6588000" y="5732640"/>
            <a:ext cx="1656000" cy="2887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10"/>
          <p:cNvSpPr/>
          <p:nvPr/>
        </p:nvSpPr>
        <p:spPr>
          <a:xfrm>
            <a:off x="6659640" y="6165720"/>
            <a:ext cx="1657440" cy="28764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7030a0"/>
                </a:solidFill>
                <a:latin typeface="Arial"/>
              </a:rPr>
              <a:t>Акциони потенцијали преткомора, комора и Пуркињеових влак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5075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Фаза 3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 представља</a:t>
            </a:r>
            <a:r>
              <a:rPr b="0" lang="sr-Latn-C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реполаризацију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Настаје услед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затварањ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канала з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лцију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CS" sz="22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1" lang="sr-CS" sz="2200" spc="-1" strike="noStrike" baseline="30000">
                <a:solidFill>
                  <a:srgbClr val="000000"/>
                </a:solidFill>
                <a:latin typeface="Arial"/>
              </a:rPr>
              <a:t>2+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 спорог, одложеног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повећањ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изласка 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алијума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К</a:t>
            </a:r>
            <a:r>
              <a:rPr b="1" lang="ru-RU" sz="22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) из ћелије кроз калијумске канале, при чему се потенцијал враћа на вредности мировног мембранског потенцијала</a:t>
            </a:r>
            <a:r>
              <a:rPr b="0" lang="sr-C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2862360" y="3313080"/>
            <a:ext cx="3419280" cy="24922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8" descr=""/>
          <p:cNvPicPr/>
          <p:nvPr/>
        </p:nvPicPr>
        <p:blipFill>
          <a:blip r:embed="rId2"/>
          <a:stretch/>
        </p:blipFill>
        <p:spPr>
          <a:xfrm>
            <a:off x="2862360" y="5818320"/>
            <a:ext cx="3419280" cy="563400"/>
          </a:xfrm>
          <a:prstGeom prst="rect">
            <a:avLst/>
          </a:prstGeom>
          <a:ln w="0">
            <a:noFill/>
          </a:ln>
        </p:spPr>
      </p:pic>
      <p:sp>
        <p:nvSpPr>
          <p:cNvPr id="81" name="Oval 5"/>
          <p:cNvSpPr/>
          <p:nvPr/>
        </p:nvSpPr>
        <p:spPr>
          <a:xfrm>
            <a:off x="5508720" y="4797360"/>
            <a:ext cx="28872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6"/>
          <p:cNvSpPr/>
          <p:nvPr/>
        </p:nvSpPr>
        <p:spPr>
          <a:xfrm>
            <a:off x="5364000" y="5877000"/>
            <a:ext cx="289080" cy="287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7T08:06:34Z</dcterms:created>
  <dc:creator>Prodekani 2</dc:creator>
  <dc:description/>
  <dc:language>en-US</dc:language>
  <cp:lastModifiedBy>Vladimir Zivkovic</cp:lastModifiedBy>
  <dcterms:modified xsi:type="dcterms:W3CDTF">2016-09-01T09:57:51Z</dcterms:modified>
  <cp:revision>45</cp:revision>
  <dc:subject/>
  <dc:title>Физиологија срца</dc:title>
</cp:coreProperties>
</file>